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35F-3DAF-48C6-A764-2A988CE5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A17-B525-4A6F-A15B-B9345C9A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E54-C4EE-4B26-80B3-67F017E1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E82-700A-4BD1-9AC7-49295520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0268-51DD-4D4C-9BF1-987EE348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C8DA-0D45-4BE4-9B84-C5C0A02D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1A24-C61C-41A6-9154-9B2084A6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A70D-9616-41F8-B676-ECE3B876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E853-B6A2-4AF4-A059-FC159584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62C6-D9E2-4644-A464-AE5631F2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1431-5478-4BD5-8ABB-210C9396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759-8049-4D54-B11D-1C67EC0D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AF8D-18AC-40D7-BE15-C3EAEB63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4D06-FDA9-4D6D-B81B-3216CE3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EBFD-249A-4E45-9A53-74A928DD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2507-B3BE-4424-92CA-75EBCE06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DD47-7F61-4F57-97AB-6652B617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6F0-2080-4099-AB35-75BFEE97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553-E356-47AD-98D2-B7AFF854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EE6-A8DC-4BD0-ABAB-A44AC37F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7B2-A5EE-454C-BA3A-C9F88148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3DB-BC6C-43EC-A629-CEE3F107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35D-01D8-4FF0-8219-D78A5BE9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7FA-6FF6-48AB-8601-45C4497E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6437-D35F-4847-9ABC-B65847785A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E987-D1D6-46B8-8403-77D04284FF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>
            <a:lum bright="66000"/>
          </a:blip>
          <a:srcRect l="18526" t="53239" r="25781" b="21075"/>
          <a:stretch/>
        </p:blipFill>
        <p:spPr>
          <a:xfrm rot="19447800">
            <a:off x="-252360" y="836640"/>
            <a:ext cx="6858000" cy="385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>
            <a:lum bright="18000"/>
          </a:blip>
          <a:srcRect l="1861" t="5542" r="41264" b="53984"/>
          <a:stretch/>
        </p:blipFill>
        <p:spPr>
          <a:xfrm>
            <a:off x="3348000" y="3137040"/>
            <a:ext cx="5506920" cy="3089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Биохимия нуклеиновых                          кисло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6"/>
          <p:cNvSpPr/>
          <p:nvPr/>
        </p:nvSpPr>
        <p:spPr>
          <a:xfrm>
            <a:off x="684360" y="2421000"/>
            <a:ext cx="784836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иды Р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летке имеется несколько видов РНК. Все они участвуют в синтезе бел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Транспортные РН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-РНК) - это самые маленькие по размерам РНК. Они связывают АК и транспортируют их к месту синтеза бел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42920" y="263664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Информационные РН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и-РНК) - они в 10 раз больше тРНК. Их функция состоит в переносе информации о структуре белка от ДНК к месту синтеза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Рибосомные РН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р-РНК) - имеют наибольшие размеры молекулы, входят в состав рибос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Генетический код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следственная информация записана в молекулах НК в виде последовательности нуклеотидов. Определенные участки молекулы ДНК и РНК (у вирусов и фагов) содержат информацию о первичной структуре одного белка и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ген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85200" indent="-3852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 ген = 1 молекула бел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5200" indent="-3852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этому наследственную информацию, которую содержат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НК называют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енетической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3924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а аминокислота закодирована тремя нуклеотидами (один кодон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12880" y="19890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Ц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247080" y="199404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Г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261200" y="1989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0"/>
          <p:cNvSpPr/>
          <p:nvPr/>
        </p:nvSpPr>
        <p:spPr>
          <a:xfrm rot="16200000">
            <a:off x="5545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11"/>
          <p:cNvSpPr/>
          <p:nvPr/>
        </p:nvSpPr>
        <p:spPr>
          <a:xfrm rot="16200000">
            <a:off x="655380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2"/>
          <p:cNvSpPr/>
          <p:nvPr/>
        </p:nvSpPr>
        <p:spPr>
          <a:xfrm rot="16200000">
            <a:off x="7488720" y="231660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708160" y="278604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иплет, кодо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4"/>
          <p:cNvSpPr/>
          <p:nvPr/>
        </p:nvSpPr>
        <p:spPr>
          <a:xfrm rot="16200000">
            <a:off x="6553800" y="2174040"/>
            <a:ext cx="287280" cy="266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454800" y="364968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е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553788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474240" y="4154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482600" y="41497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21"/>
          <p:cNvSpPr/>
          <p:nvPr/>
        </p:nvSpPr>
        <p:spPr>
          <a:xfrm rot="16200000">
            <a:off x="6696720" y="3613680"/>
            <a:ext cx="287640" cy="2663640"/>
          </a:xfrm>
          <a:custGeom>
            <a:avLst/>
            <a:gdLst>
              <a:gd name="textAreaLeft" fmla="*/ 183960 w 287640"/>
              <a:gd name="textAreaRight" fmla="*/ 288000 w 28764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70920" y="51055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л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280" y="4941360"/>
            <a:ext cx="3924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: АК триптофан закодирована в РНК УГГ, в ДНК - АЦ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0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меется 64 кодон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84360" y="3573000"/>
            <a:ext cx="39243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1 кодон кодирует 20 (21) аминокислот, три кодона являются знаками препинания: кодоны-терминаторы УАА, УАГ, УГА (в РНК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065240" y="2276640"/>
            <a:ext cx="44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763640" y="2421000"/>
            <a:ext cx="287280" cy="1655640"/>
          </a:xfrm>
          <a:custGeom>
            <a:avLst/>
            <a:gdLst>
              <a:gd name="textAreaLeft" fmla="*/ 0 w 287280"/>
              <a:gd name="textAreaRight" fmla="*/ 10368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2293920" y="3073320"/>
            <a:ext cx="455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войства генетического код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ниверсальност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ретность (кодовые триплеты считываются с молекулы РНК целиком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пецифичность (кодон кодирует только АК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ыточность кода (несколько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ритроциты - двояковогнутые диски, содержат гемоглоб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орма: 6-е место – гл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атология – ва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емоглобин - бел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0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Пример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 молекула = 4 полиме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 полимер = 574 А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изменении молекулы белка изменяется свойство гемоглобина, возникает наследственное заболевание: серповидно-клеточная анем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уклеиновые кислоты: ДНК и Р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К – полимер. Мономер – нуклеотид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ы ДНК обладают видовой специфичность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олекула ДНК – двойная спираль, поддерживается водородными связя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крыт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крыты во второй половине 19 века швейцарским биохимиком Ф. Мишер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первые обнаружены в ядре («нуклеус» - ядро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rcRect l="62420" t="27455" r="21075" b="43525"/>
          <a:stretch/>
        </p:blipFill>
        <p:spPr>
          <a:xfrm>
            <a:off x="5292720" y="981000"/>
            <a:ext cx="3344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пи ДНК строятся по принципу комплиментар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держание ДНК в клетке постояннн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ункция ДНК – хранение и пердача наследственной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047760" y="2060640"/>
            <a:ext cx="263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c0000"/>
                </a:solidFill>
                <a:latin typeface="Verdana"/>
              </a:rPr>
              <a:t>ДНК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3848040" y="4197240"/>
            <a:ext cx="2158920" cy="792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глевод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бо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21"/>
          <p:cNvSpPr/>
          <p:nvPr/>
        </p:nvSpPr>
        <p:spPr>
          <a:xfrm>
            <a:off x="770040" y="3970440"/>
            <a:ext cx="215892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зотисто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А, Г, Ц, У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22"/>
          <p:cNvSpPr/>
          <p:nvPr/>
        </p:nvSpPr>
        <p:spPr>
          <a:xfrm>
            <a:off x="6589800" y="4114800"/>
            <a:ext cx="2158920" cy="7920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то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3078000" y="45943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6012000" y="451152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cap="rnd" w="1144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8.67052E-007 L 0.46459 0.48254 E">
                                      <p:cBhvr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0.5">
                                      <p:cBhvr additive="repl">
                                        <p:cTn id="2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14"/>
          <p:cNvSpPr/>
          <p:nvPr/>
        </p:nvSpPr>
        <p:spPr>
          <a:xfrm>
            <a:off x="2916360" y="486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72436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195640" y="1870200"/>
            <a:ext cx="4322520" cy="25668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9"/>
          <p:cNvSpPr/>
          <p:nvPr/>
        </p:nvSpPr>
        <p:spPr>
          <a:xfrm>
            <a:off x="755640" y="4292640"/>
            <a:ext cx="215892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зотисто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А, Г, Ц, Т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564000" y="4437000"/>
            <a:ext cx="2158920" cy="7923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глевод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зоксирибо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6300720" y="4437000"/>
            <a:ext cx="2158920" cy="79236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ато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троение 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уклеотид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- химическое соединение остатков трех веществ: азотистого основания, углевода, фосфорной кисло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одель ДН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853 г. – создание модели ДН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31190" t="35901" r="35764" b="33706"/>
          <a:stretch/>
        </p:blipFill>
        <p:spPr>
          <a:xfrm>
            <a:off x="611280" y="2781360"/>
            <a:ext cx="44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"/>
          <a:srcRect l="53239" t="25781" r="21075" b="18526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rcRect l="1861" t="5542" r="41264" b="53984"/>
          <a:stretch/>
        </p:blipFill>
        <p:spPr>
          <a:xfrm>
            <a:off x="539640" y="1628640"/>
            <a:ext cx="83534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мплиментарност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пространственная взаимодополняемость молекул или их частей, приводящая к образованию водородных связ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плиментарные структуры подходят друг к другу как «ключ с замком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2556000" y="486900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7111" dir="20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(А+Т)+(Г+Ц)=100%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rcRect l="9185" t="3829" r="50449" b="53984"/>
          <a:stretch/>
        </p:blipFill>
        <p:spPr>
          <a:xfrm>
            <a:off x="324000" y="119160"/>
            <a:ext cx="8420040" cy="6478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Соединение нуклеотид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5:30:17Z</dcterms:created>
  <dc:creator>Петрович</dc:creator>
  <dc:description/>
  <dc:language>en-US</dc:language>
  <cp:lastModifiedBy>XP GAME 2010</cp:lastModifiedBy>
  <dcterms:modified xsi:type="dcterms:W3CDTF">2012-11-30T10:10:58Z</dcterms:modified>
  <cp:revision>11</cp:revision>
  <dc:subject/>
  <dc:title>Нуклеиновые кисл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